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5.wmf" ContentType="image/x-wmf"/>
  <Override PartName="/ppt/media/breeze.wav" ContentType="audio/x-wav"/>
  <Override PartName="/ppt/media/image9.png" ContentType="image/png"/>
  <Override PartName="/ppt/media/image15.gif" ContentType="image/gif"/>
  <Override PartName="/ppt/media/image14.gif" ContentType="image/gif"/>
  <Override PartName="/ppt/media/image13.png" ContentType="image/png"/>
  <Override PartName="/ppt/media/chimes.wav" ContentType="audio/x-wav"/>
  <Override PartName="/ppt/media/image8.png" ContentType="image/png"/>
  <Override PartName="/ppt/media/image1.wmf" ContentType="image/x-wmf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8BC-AFFE-4839-908F-E15AB1C6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256-5589-4FFF-AB1A-D3AAE0F3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284A-1DE8-4857-8352-4EF8BC886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0C05-993A-4094-8014-4EA7E5CC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E3E8-ED01-4841-BB31-F883A6A2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4C16-7B75-4246-9715-FC7D1BEF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6F08-9206-4041-B884-96CD2EA6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C3C5-E247-4FC2-BF89-2412277B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98FA-1B45-4FCD-A0FD-EF004567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7B05-EAA9-4C19-B3AD-0BEB998C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22F2-A655-49CD-B005-7155ED5B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A756-D118-44D7-8F06-BB12BB02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3BDC-BF2D-4F1E-AD62-946C959A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F689-3663-4463-8324-D159700D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9994-DF5E-442D-883A-6D0E2F81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1448-0A28-4009-AC7A-62B0E345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DC85-7170-4603-BC36-F3D844C2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6538C-C559-42EA-9785-46693FF0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067B6-E2E1-4D79-B466-255EFA3A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BED36-11E9-4E2A-8226-E41B75D4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DEB26-21D3-418C-A3B5-B3D3D13C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E3A22-4779-4BA7-8BDF-2416B9E8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EE87-CEDF-4371-BC04-C508A5CF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4FBF1-AE2C-48C4-9FAE-E5B58065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05E85-AF66-42FC-A025-14824904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D0529-8C3C-4DBF-8965-E975D676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D2F9E-2199-48EC-9301-AFF0A29B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C7C61-6688-419A-85E0-5505E197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D1315-E87A-4DE8-BE17-B0F9846B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715CE-4C82-4437-9514-95F14917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2E86-3119-4DF9-A6EE-BC018099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F82-FCBA-46CE-A94D-04F9DC42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4C48-0D4C-4327-B440-D8933FE8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C19-2096-48D0-BD8C-33EF4FB5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21EA-8BBA-44A4-A09C-D75D0D91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99F8-C6A1-4C42-A30E-050EB591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C602-A91B-414E-BF38-F3D1FDF74D8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CC2A-0BFE-46C5-866F-A2BEA597355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46AA-F4B8-4AB4-B834-5BE2E76D2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3.png"/><Relationship Id="rId6" Type="http://schemas.openxmlformats.org/officeDocument/2006/relationships/audio" Target="../media/chimes.wav"/><Relationship Id="rId7" Type="http://schemas.openxmlformats.org/officeDocument/2006/relationships/audio" Target="../media/breeze.wav"/><Relationship Id="rId8" Type="http://schemas.openxmlformats.org/officeDocument/2006/relationships/audio" Target="../media/chimes.wav"/><Relationship Id="rId9" Type="http://schemas.openxmlformats.org/officeDocument/2006/relationships/audio" Target="../media/breeze.wav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2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2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2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2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2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042920" y="404640"/>
            <a:ext cx="3889440" cy="2664000"/>
          </a:xfrm>
          <a:prstGeom prst="wedgeRoundRectCallout">
            <a:avLst>
              <a:gd name="adj1" fmla="val -18814"/>
              <a:gd name="adj2" fmla="val 99226"/>
              <a:gd name="adj3" fmla="val 16667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ecuerd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a computadora es una herramienta que nos ayuda a facilitar nuestro trabaj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276720" y="3716280"/>
            <a:ext cx="3020760" cy="2922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227640" y="2852640"/>
            <a:ext cx="2016360" cy="1513080"/>
          </a:xfrm>
          <a:prstGeom prst="wedgeEllipseCallout">
            <a:avLst>
              <a:gd name="adj1" fmla="val -68189"/>
              <a:gd name="adj2" fmla="val 91865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99"/>
                </a:solidFill>
                <a:latin typeface="Arial"/>
              </a:rPr>
              <a:t>Ohoo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50920" y="4149720"/>
            <a:ext cx="2593800" cy="2594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2050920" y="390528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50920" y="3429000"/>
            <a:ext cx="2268360" cy="792000"/>
          </a:xfrm>
          <a:prstGeom prst="wedgeRoundRectCallout">
            <a:avLst>
              <a:gd name="adj1" fmla="val 48879"/>
              <a:gd name="adj2" fmla="val 163226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mm… bueno, eso espero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5435640" y="3284640"/>
            <a:ext cx="2781360" cy="35733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908000" y="0"/>
            <a:ext cx="2698920" cy="1008000"/>
          </a:xfrm>
          <a:prstGeom prst="wedgeRoundRectCallout">
            <a:avLst>
              <a:gd name="adj1" fmla="val -16472"/>
              <a:gd name="adj2" fmla="val 276143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Verdana"/>
              </a:rPr>
              <a:t>Hola Profe Benjamín ¿Cómo ha estado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333360"/>
            <a:ext cx="3889440" cy="647640"/>
          </a:xfrm>
          <a:prstGeom prst="wedgeRoundRectCallout">
            <a:avLst>
              <a:gd name="adj1" fmla="val 11916"/>
              <a:gd name="adj2" fmla="val 544115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99"/>
                </a:solidFill>
                <a:latin typeface="Verdana"/>
              </a:rPr>
              <a:t>Muy bien alumnita Yadira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99"/>
                </a:solidFill>
                <a:latin typeface="Verdana"/>
              </a:rPr>
              <a:t>¿ Y usted como has estado?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9640" y="1557360"/>
            <a:ext cx="2195640" cy="1512720"/>
          </a:xfrm>
          <a:prstGeom prst="wedgeRoundRectCallout">
            <a:avLst>
              <a:gd name="adj1" fmla="val 79138"/>
              <a:gd name="adj2" fmla="val 65212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99"/>
                </a:solidFill>
                <a:latin typeface="Verdana"/>
              </a:rPr>
              <a:t>Bien, me ha costado mucho trabajo este comic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54560" y="1557360"/>
            <a:ext cx="3889440" cy="647640"/>
          </a:xfrm>
          <a:prstGeom prst="wedgeRoundRectCallout">
            <a:avLst>
              <a:gd name="adj1" fmla="val -939"/>
              <a:gd name="adj2" fmla="val 328430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99"/>
                </a:solidFill>
                <a:latin typeface="Arial"/>
              </a:rPr>
              <a:t>Estoy seguro que realizaste un buen trabajo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54560" y="2565360"/>
            <a:ext cx="3889440" cy="1008000"/>
          </a:xfrm>
          <a:prstGeom prst="wedgeRoundRectCallout">
            <a:avLst>
              <a:gd name="adj1" fmla="val -32939"/>
              <a:gd name="adj2" fmla="val 55513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99"/>
                </a:solidFill>
                <a:latin typeface="Verdana"/>
              </a:rPr>
              <a:t>Muy bien tiene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99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1332000" y="0"/>
            <a:ext cx="6767280" cy="67676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>
            <a:off x="46836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850"/>
                            </p:stCondLst>
                            <p:childTnLst>
                              <p:par>
                                <p:cTn id="2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50"/>
                            </p:stCondLst>
                            <p:childTnLst>
                              <p:par>
                                <p:cTn id="26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9650"/>
                            </p:stCondLst>
                            <p:childTnLst>
                              <p:par>
                                <p:cTn id="2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2850"/>
                            </p:stCondLst>
                            <p:childTnLst>
                              <p:par>
                                <p:cTn id="2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4850"/>
                            </p:stCondLst>
                            <p:childTnLst>
                              <p:par>
                                <p:cTn id="2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7850"/>
                            </p:stCondLst>
                            <p:childTnLst>
                              <p:par>
                                <p:cTn id="2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850"/>
                            </p:stCondLst>
                            <p:childTnLst>
                              <p:par>
                                <p:cTn id="2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0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El tema del día de hoy 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308720" y="5157720"/>
            <a:ext cx="1406520" cy="141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50920" y="3068640"/>
            <a:ext cx="3384360" cy="3384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067280" y="1628640"/>
            <a:ext cx="3889440" cy="2664000"/>
          </a:xfrm>
          <a:prstGeom prst="wedgeRoundRectCallout">
            <a:avLst>
              <a:gd name="adj1" fmla="val -70449"/>
              <a:gd name="adj2" fmla="val 44041"/>
              <a:gd name="adj3" fmla="val 16667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Como guardar un documento en un disquete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Esta herramienta nos va a ayudar a conservar nuestros documentos y los podemos utilizar todas las veces que nosotros deseemo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7000"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4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374920" y="1781280"/>
            <a:ext cx="6769080" cy="5076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572000" y="6206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80"/>
                </a:solidFill>
                <a:latin typeface="Comic Sans MS"/>
              </a:rPr>
              <a:t>Solo aparece presentación 1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95640" y="1628640"/>
            <a:ext cx="2198520" cy="43200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00720" y="1052640"/>
            <a:ext cx="2154240" cy="79200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2556000" cy="2555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50920" y="260280"/>
            <a:ext cx="3889440" cy="1008000"/>
          </a:xfrm>
          <a:prstGeom prst="wedgeRoundRectCallout">
            <a:avLst>
              <a:gd name="adj1" fmla="val -19916"/>
              <a:gd name="adj2" fmla="val 271731"/>
              <a:gd name="adj3" fmla="val 16667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99"/>
                </a:solidFill>
                <a:latin typeface="Verdana"/>
              </a:rPr>
              <a:t>Observa  la  barra de títulos, no tiene nombre el documento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advTm="11000">
    <p:wheel spokes="2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24000" y="333360"/>
            <a:ext cx="4319280" cy="863640"/>
          </a:xfrm>
          <a:prstGeom prst="wedgeRoundRectCallout">
            <a:avLst>
              <a:gd name="adj1" fmla="val -11629"/>
              <a:gd name="adj2" fmla="val 340625"/>
              <a:gd name="adj3" fmla="val 16667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99"/>
                </a:solidFill>
                <a:latin typeface="Verdana"/>
              </a:rPr>
              <a:t>1.- Para poder guardarlo, debes dar un clic en el </a:t>
            </a:r>
            <a:r>
              <a:rPr b="0" lang="es-ES_tradnl" sz="1800" spc="-1" strike="noStrike">
                <a:solidFill>
                  <a:srgbClr val="008080"/>
                </a:solidFill>
                <a:latin typeface="Verdana"/>
              </a:rPr>
              <a:t>menú Archivo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2565360"/>
            <a:ext cx="4319280" cy="863640"/>
          </a:xfrm>
          <a:prstGeom prst="wedgeRoundRectCallout">
            <a:avLst>
              <a:gd name="adj1" fmla="val 15564"/>
              <a:gd name="adj2" fmla="val 181986"/>
              <a:gd name="adj3" fmla="val 16667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6699"/>
                </a:solidFill>
                <a:latin typeface="Verdana"/>
              </a:rPr>
              <a:t>2.-  Y después elegir el submenú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bf7ff"/>
                </a:solidFill>
                <a:latin typeface="Verdana"/>
              </a:rPr>
              <a:t>       </a:t>
            </a:r>
            <a:r>
              <a:rPr b="0" lang="es-ES_tradnl" sz="1800" spc="-1" strike="noStrike">
                <a:solidFill>
                  <a:srgbClr val="008080"/>
                </a:solidFill>
                <a:latin typeface="Verdana"/>
              </a:rPr>
              <a:t>Guardar Cómo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076720" y="1628640"/>
          <a:ext cx="351792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628640"/>
                    <a:ext cx="3517920" cy="35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0" y="228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4720" y="907920"/>
            <a:ext cx="1366920" cy="64944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08720" y="1628640"/>
            <a:ext cx="1224000" cy="43200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64000" y="3933720"/>
            <a:ext cx="3311640" cy="64944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68360" y="368928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843280" y="3141720"/>
            <a:ext cx="2449440" cy="100800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3000">
    <p:split dir="in" orient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5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2843280" y="2276640"/>
          <a:ext cx="5972040" cy="37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276640"/>
                    <a:ext cx="5972040" cy="37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 flipH="1">
            <a:off x="4211280" y="836640"/>
            <a:ext cx="2376360" cy="129708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700360" y="2203560"/>
            <a:ext cx="1366920" cy="43164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3718080"/>
            <a:ext cx="2771640" cy="2771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24000" y="333360"/>
            <a:ext cx="8351640" cy="863640"/>
          </a:xfrm>
          <a:prstGeom prst="wedgeRoundRectCallout">
            <a:avLst>
              <a:gd name="adj1" fmla="val -42699"/>
              <a:gd name="adj2" fmla="val 332902"/>
              <a:gd name="adj3" fmla="val 16667"/>
            </a:avLst>
          </a:prstGeom>
          <a:solidFill>
            <a:srgbClr val="cce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Verdana"/>
              </a:rPr>
              <a:t>Aparece la caja de diálogo </a:t>
            </a:r>
            <a:r>
              <a:rPr b="0" lang="es-ES_tradnl" sz="2400" spc="-1" strike="noStrike">
                <a:solidFill>
                  <a:srgbClr val="008080"/>
                </a:solidFill>
                <a:latin typeface="Verdana"/>
              </a:rPr>
              <a:t>guardar cóm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-74880" y="380880"/>
            <a:ext cx="515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Comic Sans MS"/>
              </a:rPr>
              <a:t>1  .- Da un clic en el menú colgant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80" y="1413000"/>
            <a:ext cx="56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Comic Sans MS"/>
              </a:rPr>
              <a:t>2.- Y después un clic en el </a:t>
            </a:r>
            <a:r>
              <a:rPr b="0" lang="es-ES_tradnl" sz="2400" spc="-1" strike="noStrike">
                <a:solidFill>
                  <a:srgbClr val="66ccff"/>
                </a:solidFill>
                <a:latin typeface="Comic Sans MS"/>
              </a:rPr>
              <a:t>Disco 3 ½ A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2916360" cy="29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3152880" y="2565360"/>
          <a:ext cx="5991120" cy="370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52880" y="2565360"/>
                    <a:ext cx="599112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4859280" y="1916280"/>
            <a:ext cx="1101960" cy="187308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60880" y="3789360"/>
            <a:ext cx="1366920" cy="43164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03640" y="620640"/>
            <a:ext cx="1460520" cy="223200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6880" y="2781360"/>
            <a:ext cx="505080" cy="28728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9000">
    <p:blinds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25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72240" y="1371600"/>
            <a:ext cx="840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Times New Roman"/>
              </a:rPr>
              <a:t>2.-   Ahora </a:t>
            </a:r>
            <a:r>
              <a:rPr b="0" lang="es-ES_tradnl" sz="2400" spc="-1" strike="noStrike">
                <a:solidFill>
                  <a:srgbClr val="66ccff"/>
                </a:solidFill>
                <a:latin typeface="Times New Roman"/>
              </a:rPr>
              <a:t>ponle nombre al documento,</a:t>
            </a:r>
            <a:r>
              <a:rPr b="0" lang="es-ES_tradnl" sz="2400" spc="-1" strike="noStrike">
                <a:solidFill>
                  <a:srgbClr val="ebf7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6699"/>
                </a:solidFill>
                <a:latin typeface="Times New Roman"/>
              </a:rPr>
              <a:t> ayudándote con el teclad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6200" y="533520"/>
            <a:ext cx="45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Times New Roman"/>
              </a:rPr>
              <a:t>1.-    Dale un clic y borra lo escrito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7720" y="1981080"/>
            <a:ext cx="72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Times New Roman"/>
              </a:rPr>
              <a:t>En éste caso el documento se llama  </a:t>
            </a:r>
            <a:r>
              <a:rPr b="0" lang="es-ES_tradnl" sz="2400" spc="-1" strike="noStrike" u="sng">
                <a:solidFill>
                  <a:srgbClr val="006699"/>
                </a:solidFill>
                <a:uFillTx/>
                <a:latin typeface="Times New Roman"/>
              </a:rPr>
              <a:t>“Mariposa Monarca”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476360" y="2708280"/>
          <a:ext cx="595332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708280"/>
                    <a:ext cx="595332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 flipH="1">
            <a:off x="4788000" y="2421000"/>
            <a:ext cx="2520720" cy="360036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5805360"/>
            <a:ext cx="2303640" cy="43200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0" y="515772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6000"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indefinite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1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72" dur="indefinite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17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2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906200" y="476280"/>
            <a:ext cx="49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Comic Sans MS"/>
              </a:rPr>
              <a:t>Dale un clic en el </a:t>
            </a:r>
            <a:r>
              <a:rPr b="1" lang="es-ES_tradnl" sz="2400" spc="-1" strike="noStrike">
                <a:solidFill>
                  <a:srgbClr val="66ccff"/>
                </a:solidFill>
                <a:latin typeface="Comic Sans MS"/>
              </a:rPr>
              <a:t>botón Guarda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979640" y="1700280"/>
          <a:ext cx="595296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700280"/>
                    <a:ext cx="595296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6445080" y="907920"/>
            <a:ext cx="935280" cy="381636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77080" y="4797360"/>
            <a:ext cx="1079640" cy="43200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468360" y="530064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7000">
    <p:checker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0" dur="250" autoRev="1" fill="hold"/>
                                        <p:tgtEl>
                                          <p:spTgt spid="2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0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0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0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208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209" dur="1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82600" y="1523880"/>
            <a:ext cx="735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Comic Sans MS"/>
              </a:rPr>
              <a:t>Y quieres </a:t>
            </a:r>
            <a:r>
              <a:rPr b="0" lang="es-ES_tradnl" sz="2400" spc="-1" strike="noStrike">
                <a:solidFill>
                  <a:srgbClr val="66ccff"/>
                </a:solidFill>
                <a:latin typeface="Comic Sans MS"/>
              </a:rPr>
              <a:t>guardar los cambios</a:t>
            </a:r>
            <a:r>
              <a:rPr b="0" lang="es-ES_tradnl" sz="2400" spc="-1" strike="noStrike">
                <a:solidFill>
                  <a:srgbClr val="006699"/>
                </a:solidFill>
                <a:latin typeface="Comic Sans MS"/>
              </a:rPr>
              <a:t>, como pueden ser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Comic Sans MS"/>
              </a:rPr>
              <a:t>Tipo de letra, tamaño, color, insertar una imagen, etc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56520" y="560520"/>
            <a:ext cx="59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Comic Sans MS"/>
              </a:rPr>
              <a:t>“</a:t>
            </a:r>
            <a:r>
              <a:rPr b="0" lang="es-ES_tradnl" sz="2800" spc="-1" strike="noStrike" u="sng">
                <a:solidFill>
                  <a:srgbClr val="006699"/>
                </a:solidFill>
                <a:uFillTx/>
                <a:latin typeface="Comic Sans MS"/>
              </a:rPr>
              <a:t>Si ya tiene nombre el documento</a:t>
            </a:r>
            <a:r>
              <a:rPr b="0" lang="es-ES_tradnl" sz="2800" spc="-1" strike="noStrike">
                <a:solidFill>
                  <a:srgbClr val="006699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-61920" y="6035760"/>
            <a:ext cx="561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99"/>
                </a:solidFill>
                <a:latin typeface="Comic Sans MS"/>
              </a:rPr>
              <a:t>Solo da un </a:t>
            </a:r>
            <a:r>
              <a:rPr b="0" lang="es-ES_tradnl" sz="2400" spc="-1" strike="noStrike" u="sng">
                <a:solidFill>
                  <a:srgbClr val="66ccff"/>
                </a:solidFill>
                <a:uFillTx/>
                <a:latin typeface="Comic Sans MS"/>
              </a:rPr>
              <a:t>clic en el icono de guardar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600200" y="2743200"/>
          <a:ext cx="6400800" cy="16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743200"/>
                    <a:ext cx="64008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2514600" y="3200400"/>
            <a:ext cx="1523880" cy="129528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676920" y="4876920"/>
          <a:ext cx="188748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76920" y="4876920"/>
                    <a:ext cx="18874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72360" y="4648320"/>
            <a:ext cx="2438280" cy="220968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058920" y="2708280"/>
            <a:ext cx="1873080" cy="720720"/>
          </a:xfrm>
          <a:prstGeom prst="line">
            <a:avLst/>
          </a:prstGeom>
          <a:ln w="76320">
            <a:solidFill>
              <a:srgbClr val="66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0" y="407664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7000">
    <p:wheel spokes="8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2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2" dur="25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09:41:58Z</dcterms:created>
  <dc:creator>a2m04</dc:creator>
  <dc:description/>
  <dc:language>en-US</dc:language>
  <cp:lastModifiedBy>a2m05</cp:lastModifiedBy>
  <dcterms:modified xsi:type="dcterms:W3CDTF">2006-07-14T09:37:01Z</dcterms:modified>
  <cp:revision>87</cp:revision>
  <dc:subject/>
  <dc:title>Diapositiva 1</dc:title>
</cp:coreProperties>
</file>